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7DFD74-7CA4-4BC4-B612-9182EA5B8F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C5943-DEED-4971-B257-A63CD9440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3D820F-14F5-422D-8001-0242C548A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ABBA4-C5EE-41C0-B806-ED276C245C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EAA138-5867-4A90-8AFD-698C83D15B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50B24-FFA7-4D67-9BBE-271F7DBC5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116F5A-7D4E-4F04-88CB-A880466842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4D03D-06E3-48A1-880B-C34F47337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E214AB-9084-4306-AB7B-DEA5194C1F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593EF-4D41-4144-BA9D-2EFE44219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AE592-C0BC-49CB-A888-49A6C6438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F2B6E-C7B7-471E-8145-4C1168D27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B925F-A3F5-4B66-8AAB-5E7F24EE8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CED76-1914-4F6B-AE8B-F48EA3B77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5925AC-9ED3-4924-8811-34BFB9B53A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59130C-2E52-46B4-9D91-29CC796B4F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5FB6CA-7443-4287-B499-C5D5B8A3AE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8B4B2F-3888-493E-8905-9054B7C2CD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4A69C7-AF76-439F-B47A-FF8599F778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70B78E-AFBA-4C70-AE46-9F83426109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D20E04-9858-4598-AAF6-90014DAE00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BC6E6C-2AAE-4C2E-B90F-42B848EFA5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1E0D2-577B-4419-8C2D-BB2365DAE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11917A-0FBE-400D-BABA-D011B26DF7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16610E-5FC6-41FB-9A6E-E9B5CEA0F7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9F72F2-4681-432C-9D8A-095AF1D7CD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FD8BA5-B620-478B-BC1A-78F23DF410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3D964F-352B-48DF-BC0A-453A658715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CD3E16-5EC9-4209-9B64-3E8BFE2C0F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4F2EEF-DF37-4BCE-990C-9214B41FE9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085B63-BA2D-40D1-872F-09ADE68963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99D67C-3CA0-4B5F-89F7-1A93123364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0E9544-AD9A-4154-B7DD-015F65D4D1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56F63-F411-4AAD-9A90-F99118F30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6AA916-E8E1-49DA-90C1-18A81E8A17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7EDF39-FA2A-46F8-92A9-2C5C8D6953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653EDF-9970-4648-B763-45CA541ED5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3B3002-0950-4ECB-A4DF-0D5CDBAF67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7FEB65-3E7D-4012-9F17-958C623E4C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292020-09BF-4CEC-828F-F3919468D1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5CC41E-398C-41B1-A79D-20227DF531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954719-B21F-4564-8C1E-F57CCDF840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D721A8-FC1A-41D4-B554-4B55FD7187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C2A934-5D36-431B-A961-6BBFCBAA18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6F463-CEC8-4239-92D2-FDF4198F8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402230-77D0-46ED-AB28-8467B3571F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AEE755-30C3-4127-B91C-A38FB2304D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DD9FE2-4CBA-4B83-B993-082DBD4102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B65408-04C3-481E-AFA0-D783E2AC3A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2902E5-3C1F-4694-815A-AF49DC7568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2298A4-A3CD-417F-A908-847C596002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B2E9EB-5DA5-41B9-98D8-C9ADC5091A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C87F57-6703-47E2-AA38-5312F2C968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37780A-161A-4E43-B9FD-871C387F08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1A3394-8B1A-481E-A75A-3F79987D8A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F446B-0C20-4C0E-A56C-E133CD8CE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D710A0-450B-4990-883B-772FAA6D99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199BC4-71A8-4722-9C59-5CA3E86A1F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780E24-37E9-4F60-9447-13F11ABF07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F63348-C915-49D4-8DF3-F54570FA78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77DC29-29EA-4F1D-A9B6-CCE74E95D6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93ECA3-F2B6-418F-BC55-A8CCE463C6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1ABC56-8928-4A6D-96EE-E174DD9C90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40F6DC-B7EB-4AF3-B735-59141713DC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94BEB1-0EC4-4CA9-AE3B-D4E76B5FD0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095EE0-7124-49FD-BE09-145A4458D1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E0685-5D6C-4758-9D00-F66DDF570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BCDD83-5245-48ED-8AA8-4C3F1FFDB5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671186-20DF-4845-9944-0166E8455C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DEC8B8-87DD-49EC-8F9C-B3F8AFC0C0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5C9F24-00E3-4BD6-958E-5A0773C1D1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DAD78E-68C5-4D53-B178-3FE0D557D9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094CDD-D574-4A8F-A5DF-ECBA3CD7EF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83AD8C-1FBF-416E-AA7A-1E2582279A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26F7E8-7722-41BE-88B2-9A0EBE13F5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3764F2-3BC1-44C9-9FEC-26054DA23F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BEC913-871B-4490-AE74-B1E66236E6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1CFF0-520B-40CE-8532-3EE9A703A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C251EA-20EC-4D0B-8CCF-0E95676006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B78B9C-8BDB-46BC-A5A2-AAABE6CD84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28E77D-B33A-45F5-9E8B-243E2F0FC4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2E5192-8040-4170-B8C1-DD9C4FE078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C0BED0-169B-48B8-B57F-FE58311309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31967-26FD-4667-B8F3-E14549FCCD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6427D-237D-4595-ABFD-80DC297D4EC4}"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4AB58-DB52-4CCA-831A-AE5D9FD7038C}" type="slidenum">
              <a:rPr b="0" lang="en-US"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0398E-7A3A-4381-B718-0B2F30FE3D21}"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29E19-42EA-4F92-B89D-C83F657572E5}"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B0A76-B0E5-4A51-9475-133FF1F42764}"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E714D-CA32-428E-8D4C-EADB0170B2DC}" type="slidenum">
              <a:rPr b="0" lang="en-US"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AF823-3A09-4B5C-B960-013496B627E9}" type="slidenum">
              <a:rPr b="0" lang="en-US"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14.png"/><Relationship Id="rId3" Type="http://schemas.openxmlformats.org/officeDocument/2006/relationships/slide" Target="slide2.xml"/><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16.png"/><Relationship Id="rId3" Type="http://schemas.openxmlformats.org/officeDocument/2006/relationships/slide" Target="slide19.xml"/><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 Target="slide1.xml"/><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 Target="slide4.xml"/><Relationship Id="rId6" Type="http://schemas.openxmlformats.org/officeDocument/2006/relationships/slide" Target="slide7.xml"/><Relationship Id="rId7"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slide" Target="slide8.xml"/><Relationship Id="rId4" Type="http://schemas.openxmlformats.org/officeDocument/2006/relationships/slide" Target="slide8.xml"/><Relationship Id="rId5" Type="http://schemas.openxmlformats.org/officeDocument/2006/relationships/slide" Target="slide13.xml"/><Relationship Id="rId6" Type="http://schemas.openxmlformats.org/officeDocument/2006/relationships/image" Target="../media/image3.png"/><Relationship Id="rId7" Type="http://schemas.openxmlformats.org/officeDocument/2006/relationships/slide" Target="slide18.xml"/><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Title 1" descr=""/>
          <p:cNvPicPr/>
          <p:nvPr/>
        </p:nvPicPr>
        <p:blipFill>
          <a:blip r:embed="rId1"/>
          <a:stretch/>
        </p:blipFill>
        <p:spPr>
          <a:xfrm>
            <a:off x="682560" y="841320"/>
            <a:ext cx="8345520" cy="3608280"/>
          </a:xfrm>
          <a:prstGeom prst="rect">
            <a:avLst/>
          </a:prstGeom>
          <a:ln w="0">
            <a:noFill/>
          </a:ln>
        </p:spPr>
      </p:pic>
      <p:sp>
        <p:nvSpPr>
          <p:cNvPr id="302" name="PlaceHolder 1"/>
          <p:cNvSpPr>
            <a:spLocks noGrp="1"/>
          </p:cNvSpPr>
          <p:nvPr>
            <p:ph type="subTitle"/>
          </p:nvPr>
        </p:nvSpPr>
        <p:spPr>
          <a:xfrm>
            <a:off x="837720" y="4876920"/>
            <a:ext cx="8062920" cy="175248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assie Ann Valencia</a:t>
            </a:r>
            <a:endParaRPr b="0" lang="en-US" sz="3000" spc="-1" strike="noStrike">
              <a:solidFill>
                <a:srgbClr val="ffffff"/>
              </a:solidFill>
              <a:latin typeface="Century Gothic"/>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Grade 4-Kawit</a:t>
            </a:r>
            <a:endParaRPr b="0" lang="en-US" sz="3000" spc="-1" strike="noStrike">
              <a:solidFill>
                <a:srgbClr val="ffffff"/>
              </a:solidFill>
              <a:latin typeface="Century Gothic"/>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ebruary 1, 2011</a:t>
            </a:r>
            <a:endParaRPr b="0" lang="en-US" sz="3000" spc="-1" strike="noStrike">
              <a:solidFill>
                <a:srgbClr val="ffffff"/>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4" descr=""/>
          <p:cNvPicPr/>
          <p:nvPr/>
        </p:nvPicPr>
        <p:blipFill>
          <a:blip r:embed="rId1"/>
          <a:stretch/>
        </p:blipFill>
        <p:spPr>
          <a:xfrm>
            <a:off x="1523880" y="1219320"/>
            <a:ext cx="6262920" cy="4572000"/>
          </a:xfrm>
          <a:prstGeom prst="rect">
            <a:avLst/>
          </a:prstGeom>
          <a:ln w="0">
            <a:noFill/>
          </a:ln>
        </p:spPr>
      </p:pic>
      <p:sp>
        <p:nvSpPr>
          <p:cNvPr id="322" name="TextBox 3"/>
          <p:cNvSpPr/>
          <p:nvPr/>
        </p:nvSpPr>
        <p:spPr>
          <a:xfrm>
            <a:off x="2057400" y="228600"/>
            <a:ext cx="487692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e90062"/>
                </a:solidFill>
                <a:latin typeface="Arial"/>
              </a:rPr>
              <a:t>Soft Drinks</a:t>
            </a:r>
            <a:endParaRPr b="0" lang="en-US" sz="4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533520" y="914400"/>
            <a:ext cx="8229600" cy="4572000"/>
          </a:xfrm>
          <a:prstGeom prst="rect">
            <a:avLst/>
          </a:prstGeom>
          <a:noFill/>
          <a:ln w="0">
            <a:noFill/>
          </a:ln>
        </p:spPr>
        <p:txBody>
          <a:bodyPr anchor="t">
            <a:normAutofit fontScale="98000"/>
          </a:bodyPr>
          <a:p>
            <a:pPr marL="438840" indent="-37476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5698"/>
                </a:solidFill>
                <a:latin typeface="Century Gothic"/>
              </a:rPr>
              <a:t>How can we prevent ourselves by having  health problems as an Atenean?</a:t>
            </a:r>
            <a:endParaRPr b="0" lang="en-US" sz="3000" spc="-1" strike="noStrike">
              <a:solidFill>
                <a:srgbClr val="ffffff"/>
              </a:solidFill>
              <a:latin typeface="Century Gothic"/>
            </a:endParaRPr>
          </a:p>
          <a:p>
            <a:pPr marL="438840" indent="-37476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3000" spc="-1" strike="noStrike">
                <a:solidFill>
                  <a:srgbClr val="ffffff"/>
                </a:solidFill>
                <a:latin typeface="Century Gothic"/>
              </a:rPr>
              <a:t>	</a:t>
            </a:r>
            <a:r>
              <a:rPr b="0" lang="en-US" sz="3000" spc="-1" strike="noStrike">
                <a:solidFill>
                  <a:srgbClr val="ffffff"/>
                </a:solidFill>
                <a:latin typeface="Century Gothic"/>
              </a:rPr>
              <a:t>-We can prevent ourselves from having health problems by looking at the </a:t>
            </a:r>
            <a:r>
              <a:rPr b="0" i="1" lang="en-US" sz="3000" spc="-1" strike="noStrike">
                <a:solidFill>
                  <a:srgbClr val="ff5698"/>
                </a:solidFill>
                <a:latin typeface="Century Gothic"/>
              </a:rPr>
              <a:t>“Nutrition Facts” </a:t>
            </a:r>
            <a:r>
              <a:rPr b="0" lang="en-US" sz="3000" spc="-1" strike="noStrike">
                <a:solidFill>
                  <a:srgbClr val="ffffff"/>
                </a:solidFill>
                <a:latin typeface="Century Gothic"/>
              </a:rPr>
              <a:t>at the back of any food product and look if you see the words: </a:t>
            </a:r>
            <a:r>
              <a:rPr b="1" lang="en-US" sz="3000" spc="-1" strike="noStrike">
                <a:solidFill>
                  <a:srgbClr val="ff5698"/>
                </a:solidFill>
                <a:latin typeface="Century Gothic"/>
              </a:rPr>
              <a:t>additives</a:t>
            </a:r>
            <a:r>
              <a:rPr b="0" lang="en-US" sz="3000" spc="-1" strike="noStrike">
                <a:solidFill>
                  <a:srgbClr val="ffffff"/>
                </a:solidFill>
                <a:latin typeface="Century Gothic"/>
              </a:rPr>
              <a:t> and </a:t>
            </a:r>
            <a:r>
              <a:rPr b="1" lang="en-US" sz="3000" spc="-1" strike="noStrike">
                <a:solidFill>
                  <a:srgbClr val="ff5698"/>
                </a:solidFill>
                <a:latin typeface="Century Gothic"/>
              </a:rPr>
              <a:t>preservatives</a:t>
            </a:r>
            <a:r>
              <a:rPr b="0" lang="en-US" sz="3000" spc="-1" strike="noStrike">
                <a:solidFill>
                  <a:srgbClr val="ffffff"/>
                </a:solidFill>
                <a:latin typeface="Century Gothic"/>
              </a:rPr>
              <a:t>, because that can cause cancer especially if they are taken excessively.</a:t>
            </a:r>
            <a:endParaRPr b="0" lang="en-US" sz="3000" spc="-1" strike="noStrike">
              <a:solidFill>
                <a:srgbClr val="ffffff"/>
              </a:solidFill>
              <a:latin typeface="Century Gothic"/>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Box 3"/>
          <p:cNvSpPr/>
          <p:nvPr/>
        </p:nvSpPr>
        <p:spPr>
          <a:xfrm>
            <a:off x="990720" y="380880"/>
            <a:ext cx="739116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90062"/>
                </a:solidFill>
                <a:latin typeface="Arial"/>
              </a:rPr>
              <a:t>Example of  “Nutrition Facts”</a:t>
            </a:r>
            <a:endParaRPr b="0" lang="en-US" sz="4200" spc="-1" strike="noStrike">
              <a:solidFill>
                <a:srgbClr val="ffffff"/>
              </a:solidFill>
              <a:latin typeface="Arial"/>
            </a:endParaRPr>
          </a:p>
        </p:txBody>
      </p:sp>
      <p:pic>
        <p:nvPicPr>
          <p:cNvPr id="325" name="Picture 2" descr="">
            <a:hlinkClick r:id="rId1" action="ppaction://hlinksldjump"/>
          </p:cNvPr>
          <p:cNvPicPr/>
          <p:nvPr/>
        </p:nvPicPr>
        <p:blipFill>
          <a:blip r:embed="rId2"/>
          <a:stretch/>
        </p:blipFill>
        <p:spPr>
          <a:xfrm>
            <a:off x="380880" y="1523880"/>
            <a:ext cx="8456760" cy="3657600"/>
          </a:xfrm>
          <a:prstGeom prst="rect">
            <a:avLst/>
          </a:prstGeom>
          <a:ln w="0">
            <a:noFill/>
          </a:ln>
        </p:spPr>
      </p:pic>
      <p:sp>
        <p:nvSpPr>
          <p:cNvPr id="326" name="Curved Left Arrow 5">
            <a:hlinkClick r:id="rId3" action="ppaction://hlinksldjump"/>
          </p:cNvPr>
          <p:cNvSpPr/>
          <p:nvPr/>
        </p:nvSpPr>
        <p:spPr>
          <a:xfrm>
            <a:off x="7696080" y="5638680"/>
            <a:ext cx="1067040" cy="914400"/>
          </a:xfrm>
          <a:custGeom>
            <a:avLst/>
            <a:gdLst>
              <a:gd name="textAreaLeft" fmla="*/ 142920 w 1067040"/>
              <a:gd name="textAreaRight" fmla="*/ 924120 w 1067040"/>
              <a:gd name="textAreaTop" fmla="*/ 142920 h 914400"/>
              <a:gd name="textAreaBottom" fmla="*/ 657360 h 914400"/>
            </a:gdLst>
            <a:ahLst/>
            <a:rect l="textAreaLeft" t="textAreaTop" r="textAreaRight" b="textAreaBottom"/>
            <a:pathLst>
              <a:path w="21600" h="21600">
                <a:moveTo>
                  <a:pt x="0" y="0"/>
                </a:moveTo>
                <a:arcTo wR="21600" hR="6750" stAng="-5400000" swAng="5400000"/>
                <a:lnTo>
                  <a:pt x="21600" y="12150"/>
                </a:lnTo>
                <a:arcTo wR="21600" hR="6750" stAng="0" swAng="3295662"/>
                <a:lnTo>
                  <a:pt x="4629" y="21443"/>
                </a:lnTo>
                <a:lnTo>
                  <a:pt x="0" y="16200"/>
                </a:lnTo>
                <a:lnTo>
                  <a:pt x="4629" y="10643"/>
                </a:lnTo>
                <a:lnTo>
                  <a:pt x="4629" y="13343"/>
                </a:lnTo>
                <a:arcTo wR="21600" hR="6750" stAng="3295662" swAng="-2829676"/>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itle 1" descr=""/>
          <p:cNvPicPr/>
          <p:nvPr/>
        </p:nvPicPr>
        <p:blipFill>
          <a:blip r:embed="rId1"/>
          <a:stretch/>
        </p:blipFill>
        <p:spPr>
          <a:xfrm>
            <a:off x="530280" y="-6480"/>
            <a:ext cx="8242200" cy="1414440"/>
          </a:xfrm>
          <a:prstGeom prst="rect">
            <a:avLst/>
          </a:prstGeom>
          <a:ln w="0">
            <a:noFill/>
          </a:ln>
        </p:spPr>
      </p:pic>
      <p:sp>
        <p:nvSpPr>
          <p:cNvPr id="328" name=""/>
          <p:cNvSpPr txBox="1"/>
          <p:nvPr/>
        </p:nvSpPr>
        <p:spPr>
          <a:xfrm>
            <a:off x="457200" y="1523880"/>
            <a:ext cx="8686800" cy="5029200"/>
          </a:xfrm>
          <a:prstGeom prst="rect">
            <a:avLst/>
          </a:prstGeom>
          <a:noFill/>
          <a:ln w="0">
            <a:noFill/>
          </a:ln>
        </p:spPr>
        <p:txBody>
          <a:bodyPr anchor="t">
            <a:normAutofit/>
          </a:bodyPr>
          <a:p>
            <a:pPr marL="447840" indent="-3826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entury Gothic"/>
              </a:rPr>
              <a:t>Mixtures can improve &amp; make’s one life convenient, but there are times when these substances cause accidents because of people’s carelessness &amp; ignorance. These are some examples that can cause accidents:</a:t>
            </a:r>
            <a:endParaRPr b="0" lang="en-US" sz="4000" spc="-1" strike="noStrike">
              <a:solidFill>
                <a:srgbClr val="ffffff"/>
              </a:solidFill>
              <a:latin typeface="Century Gothic"/>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2" descr="">
            <a:hlinkClick r:id="rId1" action="ppaction://hlinksldjump"/>
          </p:cNvPr>
          <p:cNvPicPr/>
          <p:nvPr/>
        </p:nvPicPr>
        <p:blipFill>
          <a:blip r:embed="rId2"/>
          <a:stretch/>
        </p:blipFill>
        <p:spPr>
          <a:xfrm>
            <a:off x="762120" y="1828800"/>
            <a:ext cx="2058840" cy="3094200"/>
          </a:xfrm>
          <a:prstGeom prst="rect">
            <a:avLst/>
          </a:prstGeom>
          <a:ln w="0">
            <a:noFill/>
          </a:ln>
        </p:spPr>
      </p:pic>
      <p:sp>
        <p:nvSpPr>
          <p:cNvPr id="330" name="Rectangle 4"/>
          <p:cNvSpPr/>
          <p:nvPr/>
        </p:nvSpPr>
        <p:spPr>
          <a:xfrm>
            <a:off x="0" y="5103720"/>
            <a:ext cx="9144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TextBox 5"/>
          <p:cNvSpPr/>
          <p:nvPr/>
        </p:nvSpPr>
        <p:spPr>
          <a:xfrm>
            <a:off x="2971800" y="2057400"/>
            <a:ext cx="1600200" cy="262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75005f"/>
                </a:solidFill>
                <a:latin typeface="Arial"/>
              </a:rPr>
              <a:t>+</a:t>
            </a:r>
            <a:endParaRPr b="0" lang="en-US" sz="16600" spc="-1" strike="noStrike">
              <a:solidFill>
                <a:srgbClr val="ffffff"/>
              </a:solidFill>
              <a:latin typeface="Arial"/>
            </a:endParaRPr>
          </a:p>
        </p:txBody>
      </p:sp>
      <p:pic>
        <p:nvPicPr>
          <p:cNvPr id="332" name="Picture 3" descr="">
            <a:hlinkClick r:id="rId3" action="ppaction://hlinksldjump"/>
          </p:cNvPr>
          <p:cNvPicPr/>
          <p:nvPr/>
        </p:nvPicPr>
        <p:blipFill>
          <a:blip r:embed="rId4"/>
          <a:stretch/>
        </p:blipFill>
        <p:spPr>
          <a:xfrm>
            <a:off x="4724280" y="1828800"/>
            <a:ext cx="3276720" cy="3276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1"/>
          <p:cNvSpPr/>
          <p:nvPr/>
        </p:nvSpPr>
        <p:spPr>
          <a:xfrm>
            <a:off x="0" y="4549680"/>
            <a:ext cx="914400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34" name="Picture 2" descr=""/>
          <p:cNvPicPr/>
          <p:nvPr/>
        </p:nvPicPr>
        <p:blipFill>
          <a:blip r:embed="rId1"/>
          <a:stretch/>
        </p:blipFill>
        <p:spPr>
          <a:xfrm>
            <a:off x="2209680" y="914400"/>
            <a:ext cx="5334120" cy="3995640"/>
          </a:xfrm>
          <a:prstGeom prst="rect">
            <a:avLst/>
          </a:prstGeom>
          <a:ln w="0">
            <a:noFill/>
          </a:ln>
        </p:spPr>
      </p:pic>
      <p:sp>
        <p:nvSpPr>
          <p:cNvPr id="335" name="TextBox 3"/>
          <p:cNvSpPr/>
          <p:nvPr/>
        </p:nvSpPr>
        <p:spPr>
          <a:xfrm>
            <a:off x="3962520" y="5181480"/>
            <a:ext cx="167616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5005f"/>
                </a:solidFill>
                <a:latin typeface="Arial"/>
              </a:rPr>
              <a:t>fire</a:t>
            </a:r>
            <a:endParaRPr b="0" lang="en-US" sz="6600" spc="-1" strike="noStrike">
              <a:solidFill>
                <a:srgbClr val="ffffff"/>
              </a:solidFill>
              <a:latin typeface="Arial"/>
            </a:endParaRPr>
          </a:p>
        </p:txBody>
      </p:sp>
      <p:sp>
        <p:nvSpPr>
          <p:cNvPr id="336" name="TextBox 5"/>
          <p:cNvSpPr/>
          <p:nvPr/>
        </p:nvSpPr>
        <p:spPr>
          <a:xfrm>
            <a:off x="228600" y="1295280"/>
            <a:ext cx="1143000" cy="18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75005f"/>
                </a:solidFill>
                <a:latin typeface="Arial"/>
              </a:rPr>
              <a:t>=</a:t>
            </a:r>
            <a:endParaRPr b="0" lang="en-US" sz="115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80880" y="1219320"/>
            <a:ext cx="8229600" cy="4114800"/>
          </a:xfrm>
          <a:prstGeom prst="rect">
            <a:avLst/>
          </a:prstGeom>
          <a:noFill/>
          <a:ln w="0">
            <a:noFill/>
          </a:ln>
        </p:spPr>
        <p:txBody>
          <a:bodyPr anchor="t">
            <a:normAutofit/>
          </a:bodyPr>
          <a:p>
            <a:pPr marL="447840" indent="-382680">
              <a:spcBef>
                <a:spcPts val="7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0062"/>
                </a:solidFill>
                <a:latin typeface="Century Gothic"/>
              </a:rPr>
              <a:t>How can we prevent ACCIDENTS as an Atenean?</a:t>
            </a:r>
            <a:endParaRPr b="0" lang="en-US" sz="32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3000" spc="-1" strike="noStrike">
                <a:solidFill>
                  <a:srgbClr val="ffffff"/>
                </a:solidFill>
                <a:latin typeface="Century Gothic"/>
              </a:rPr>
              <a:t>	</a:t>
            </a:r>
            <a:r>
              <a:rPr b="0" lang="en-US" sz="3000" spc="-1" strike="noStrike">
                <a:solidFill>
                  <a:srgbClr val="ffffff"/>
                </a:solidFill>
                <a:latin typeface="Century Gothic"/>
              </a:rPr>
              <a:t>-Accidents  be prevented by reading the labels very well before using any type of mixture, check how to use it properly, know what its storage equipments and what you should do in case of accidents that it may cause.</a:t>
            </a:r>
            <a:endParaRPr b="0" lang="en-US" sz="3000" spc="-1" strike="noStrike">
              <a:solidFill>
                <a:srgbClr val="ffffff"/>
              </a:solidFill>
              <a:latin typeface="Century Gothic"/>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Rectangle 3" descr=""/>
          <p:cNvPicPr/>
          <p:nvPr/>
        </p:nvPicPr>
        <p:blipFill>
          <a:blip r:embed="rId1"/>
          <a:stretch/>
        </p:blipFill>
        <p:spPr>
          <a:xfrm>
            <a:off x="-603360" y="1176480"/>
            <a:ext cx="10356840" cy="2358720"/>
          </a:xfrm>
          <a:prstGeom prst="rect">
            <a:avLst/>
          </a:prstGeom>
          <a:ln w="0">
            <a:noFill/>
          </a:ln>
        </p:spPr>
      </p:pic>
      <p:pic>
        <p:nvPicPr>
          <p:cNvPr id="339" name="Rectangle 4" descr=""/>
          <p:cNvPicPr/>
          <p:nvPr/>
        </p:nvPicPr>
        <p:blipFill>
          <a:blip r:embed="rId2"/>
          <a:stretch/>
        </p:blipFill>
        <p:spPr>
          <a:xfrm>
            <a:off x="1682640" y="3906720"/>
            <a:ext cx="5546880" cy="2165400"/>
          </a:xfrm>
          <a:prstGeom prst="rect">
            <a:avLst/>
          </a:prstGeom>
          <a:ln w="0">
            <a:noFill/>
          </a:ln>
        </p:spPr>
      </p:pic>
      <p:sp>
        <p:nvSpPr>
          <p:cNvPr id="340" name="Curved Left Arrow 5">
            <a:hlinkClick r:id="rId3" action="ppaction://hlinksldjump"/>
          </p:cNvPr>
          <p:cNvSpPr/>
          <p:nvPr/>
        </p:nvSpPr>
        <p:spPr>
          <a:xfrm>
            <a:off x="7238880" y="228600"/>
            <a:ext cx="1447920" cy="914400"/>
          </a:xfrm>
          <a:custGeom>
            <a:avLst/>
            <a:gdLst>
              <a:gd name="textAreaLeft" fmla="*/ 193680 w 1447920"/>
              <a:gd name="textAreaRight" fmla="*/ 1254240 w 1447920"/>
              <a:gd name="textAreaTop" fmla="*/ 142920 h 914400"/>
              <a:gd name="textAreaBottom" fmla="*/ 657360 h 914400"/>
            </a:gdLst>
            <a:ahLst/>
            <a:rect l="textAreaLeft" t="textAreaTop" r="textAreaRight" b="textAreaBottom"/>
            <a:pathLst>
              <a:path w="21600" h="21600">
                <a:moveTo>
                  <a:pt x="0" y="0"/>
                </a:moveTo>
                <a:arcTo wR="21600" hR="6750" stAng="-5400000" swAng="5400000"/>
                <a:lnTo>
                  <a:pt x="21600" y="12150"/>
                </a:lnTo>
                <a:arcTo wR="21600" hR="6750" stAng="0" swAng="3773922"/>
                <a:lnTo>
                  <a:pt x="3411" y="21515"/>
                </a:lnTo>
                <a:lnTo>
                  <a:pt x="0" y="16200"/>
                </a:lnTo>
                <a:lnTo>
                  <a:pt x="3411" y="10715"/>
                </a:lnTo>
                <a:lnTo>
                  <a:pt x="3411" y="13415"/>
                </a:lnTo>
                <a:arcTo wR="21600" hR="6750" stAng="3773922" swAng="-3307936"/>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Title 4" descr=""/>
          <p:cNvPicPr/>
          <p:nvPr/>
        </p:nvPicPr>
        <p:blipFill>
          <a:blip r:embed="rId1"/>
          <a:stretch/>
        </p:blipFill>
        <p:spPr>
          <a:xfrm>
            <a:off x="195120" y="262080"/>
            <a:ext cx="8498160" cy="1407960"/>
          </a:xfrm>
          <a:prstGeom prst="rect">
            <a:avLst/>
          </a:prstGeom>
          <a:ln w="0">
            <a:noFill/>
          </a:ln>
        </p:spPr>
      </p:pic>
      <p:sp>
        <p:nvSpPr>
          <p:cNvPr id="342" name="Right Arrow 3">
            <a:hlinkClick r:id="rId2" action="ppaction://hlinksldjump"/>
          </p:cNvPr>
          <p:cNvSpPr/>
          <p:nvPr/>
        </p:nvSpPr>
        <p:spPr>
          <a:xfrm>
            <a:off x="7543800" y="152280"/>
            <a:ext cx="1371600" cy="609840"/>
          </a:xfrm>
          <a:prstGeom prst="rightArrow">
            <a:avLst>
              <a:gd name="adj1" fmla="val 50000"/>
              <a:gd name="adj2" fmla="val 49980"/>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txBox="1"/>
          <p:nvPr/>
        </p:nvSpPr>
        <p:spPr>
          <a:xfrm>
            <a:off x="457200" y="1882800"/>
            <a:ext cx="8229600" cy="4865760"/>
          </a:xfrm>
          <a:prstGeom prst="rect">
            <a:avLst/>
          </a:prstGeom>
          <a:noFill/>
          <a:ln w="0">
            <a:noFill/>
          </a:ln>
        </p:spPr>
        <p:txBody>
          <a:bodyPr anchor="t">
            <a:normAutofit/>
          </a:bodyPr>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17bbfd"/>
                </a:solidFill>
                <a:uFillTx/>
                <a:latin typeface="Century Gothic"/>
                <a:hlinkClick r:id="rId3" action="ppaction://hlinksldjump"/>
              </a:rPr>
              <a:t>http://www.google.com.ph/imglanding?q=smoke+from+factories&amp;um=1&amp;hl=tl&amp;client=firefox-a&amp;rls=org.mozilla:en-US:official&amp;biw=1024&amp;bih=626&amp;tbs=isch:1&amp;tbnid=m85BMwoZ9Y8kaM:&amp;imgrefurl=http://alpine.websitewelcome.com/~answerco/7/pictures-of-smoke-from-factories.html&amp;imgurl=http://</a:t>
            </a:r>
            <a:r>
              <a:rPr b="0" lang="en-US" sz="1100" spc="-1" strike="noStrike" u="sng">
                <a:solidFill>
                  <a:srgbClr val="17bbfd"/>
                </a:solidFill>
                <a:uFillTx/>
                <a:latin typeface="Century Gothic"/>
                <a:hlinkClick r:id="rId4" action="ppaction://hlinksldjump"/>
              </a:rPr>
              <a:t>www.spiegel.de/img/0,1020,1075713,00.jpg&amp;ei=FgdNTe3YH8ikcafhocUL&amp;zoom=1&amp;w=420&amp;h=420&amp;iact=hc&amp;oei=FgdNTe3YH8ikcafhocUL&amp;esq=1&amp;page=1&amp;tbnh=166&amp;tbnw=184&amp;start=0&amp;ndsp=12&amp;ved=1t:429,r:0,s:0</a:t>
            </a: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17bbfd"/>
                </a:solidFill>
                <a:uFillTx/>
                <a:latin typeface="Century Gothic"/>
                <a:hlinkClick r:id="rId5" action="ppaction://hlinksldjump"/>
              </a:rPr>
              <a:t>http://www.google.com.ph/imglanding?q=pesticides&amp;um=1&amp;hl=tl&amp;client=firefox-a&amp;rls=org.mozilla:en-US:official&amp;biw=1024&amp;bih=626&amp;tbs=isch:1&amp;tbnid=FMgpcXjXSjYOWM:&amp;imgrefurl=http://www.roamingtimes.com/environment/pesticides.asp&amp;imgurl=http://www.roamingtimes.com/environment/images/pesticides.jpg&amp;ei=qQdNTaSeEoimcPu9qMgL&amp;zoom=1&amp;w=320&amp;h=236&amp;iact=hc&amp;oei=qQdNTaSeEoimcPu9qMgL&amp;esq=1&amp;page=1&amp;tbnh=154&amp;tbnw=205&amp;start=0&amp;ndsp=12&amp;ved=1t:429,r:5,s:0</a:t>
            </a: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17bbfd"/>
                </a:solidFill>
                <a:uFillTx/>
                <a:latin typeface="Century Gothic"/>
                <a:hlinkClick r:id="rId6" action="ppaction://hlinksldjump"/>
              </a:rPr>
              <a:t>http://www.google.com.ph/imglanding?q=global+warming&amp;um=1&amp;hl=tl&amp;client=firefox-a&amp;rls=org.mozilla:en-US:official&amp;biw=1024&amp;bih=626&amp;tbs=isch:1&amp;tbnid=Hi_SUGDX8Ftd8M:&amp;imgrefurl=http://www.greenscroll.org/problem-global-warming.html&amp;imgurl=http://www.greenscroll.org/images/global-warming.jpg&amp;ei=wglNTbOOBcW5cYnVmcUL&amp;zoom=1&amp;w=556&amp;h=475&amp;iact=rc&amp;oei=wglNTbOOBcW5cYnVmcUL&amp;esq=1&amp;page=1&amp;tbnh=171&amp;tbnw=200&amp;start=0&amp;ndsp=12&amp;ved=1t:429,r:3,s:0</a:t>
            </a: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entury Gothic"/>
              </a:rPr>
              <a:t>http://www.google.com.ph/imglanding?q=noodles+in+pack&amp;um=1&amp;hl=tl&amp;client=firefox-a&amp;rls=org.mozilla:en-US:official&amp;biw=1024&amp;bih=626&amp;tbs=isch:1&amp;tbnid=WevUN58dTOxfLM:&amp;imgrefurl=http://www.americansweets.co.uk/noodlespasta-144-c.asp&amp;imgurl=http://www.americansweets.co.uk/ekmps/shops/statesidecandy/images/pot-noodle-12-pack-1266-p.gif&amp;ei=gQlNTZ3EM8Gqcb74zbkL&amp;zoom=1&amp;w=170&amp;h=170&amp;iact=rc&amp;oei=gQlNTZ3EM8Gqcb74zbkL&amp;esq=1&amp;page=1&amp;tbnh=136&amp;tbnw=136&amp;start=0&amp;ndsp=12&amp;ved=1t:429,r:1,s:0</a:t>
            </a: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entury Gothic"/>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Title 4" descr=""/>
          <p:cNvPicPr/>
          <p:nvPr/>
        </p:nvPicPr>
        <p:blipFill>
          <a:blip r:embed="rId1"/>
          <a:stretch/>
        </p:blipFill>
        <p:spPr>
          <a:xfrm>
            <a:off x="195120" y="262080"/>
            <a:ext cx="8498160" cy="1407960"/>
          </a:xfrm>
          <a:prstGeom prst="rect">
            <a:avLst/>
          </a:prstGeom>
          <a:ln w="0">
            <a:noFill/>
          </a:ln>
        </p:spPr>
      </p:pic>
      <p:sp>
        <p:nvSpPr>
          <p:cNvPr id="345" name="Right Arrow 3"/>
          <p:cNvSpPr/>
          <p:nvPr/>
        </p:nvSpPr>
        <p:spPr>
          <a:xfrm>
            <a:off x="7543800" y="152280"/>
            <a:ext cx="1371600" cy="609840"/>
          </a:xfrm>
          <a:prstGeom prst="rightArrow">
            <a:avLst>
              <a:gd name="adj1" fmla="val 50000"/>
              <a:gd name="adj2" fmla="val 49980"/>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
          <p:cNvSpPr txBox="1"/>
          <p:nvPr/>
        </p:nvSpPr>
        <p:spPr>
          <a:xfrm>
            <a:off x="457200" y="1882440"/>
            <a:ext cx="8229600" cy="6219720"/>
          </a:xfrm>
          <a:prstGeom prst="rect">
            <a:avLst/>
          </a:prstGeom>
          <a:noFill/>
          <a:ln w="0">
            <a:noFill/>
          </a:ln>
        </p:spPr>
        <p:txBody>
          <a:bodyPr anchor="t">
            <a:normAutofit/>
          </a:bodyPr>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entury Gothic"/>
              </a:rPr>
              <a:t>http://www.google.com.ph/imglanding?q=noodles+in+pack&amp;um=1&amp;hl=tl&amp;client=firefox-a&amp;rls=org.mozilla:en-US:official&amp;biw=1024&amp;bih=626&amp;tbs=isch:1&amp;tbnid=9pMxLx-W2VkAcM:&amp;imgrefurl=http://www.21food.com/product/search_keys-Instant%252BNoodles_c-Vietnam_cat-102602.html&amp;imgurl=http://img.21food.com/img/product/2010/3/3/thienhuongfood-15050490.gif&amp;ei=gQlNTZ3EM8Gqcb74zbkL&amp;zoom=1&amp;w=500&amp;h=438&amp;iact=rc&amp;oei=gQlNTZ3EM8Gqcb74zbkL&amp;esq=1&amp;page=1&amp;tbnh=150&amp;tbnw=171&amp;start=0&amp;ndsp=12&amp;ved=1t:429,r:4,s:0</a:t>
            </a: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entury Gothic"/>
              </a:rPr>
              <a:t>http://www.google.com.ph/imglanding?q=softdrinks&amp;um=1&amp;hl=tl&amp;client=firefox-a&amp;rls=org.mozilla:en-US:official&amp;biw=1024&amp;bih=626&amp;tbs=isch:1&amp;tbnid=1bKyb4iQ8mMcLM:&amp;imgrefurl=http://www.mylot.com/w/photokeywords/soft%252Bdrinks.aspx&amp;imgurl=http://images.mylot.com/userImages/images/postphotos/2203619.jpg&amp;ei=0ghNTb__OM2qcYjJ2LsL&amp;zoom=1&amp;w=500&amp;h=365&amp;iact=hc&amp;oei=0ghNTb__OM2qcYjJ2LsL&amp;esq=1&amp;page=1&amp;tbnh=151&amp;tbnw=207&amp;start=0&amp;ndsp=14&amp;ved=1t:429,r:1,s:0</a:t>
            </a: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entury Gothic"/>
              </a:rPr>
              <a:t>http://www.google.com.ph/imglanding?q=nutrition+facts+%28horizontal%29&amp;um=1&amp;hl=tl&amp;client=firefox-a&amp;rls=org.mozilla:en-US:official&amp;biw=1024&amp;bih=626&amp;tbs=isch:1&amp;tbnid=xROtvKgt_ws-iM:&amp;imgrefurl=http://www.calstrawberry.com/market/mktretailpop.asp%253Fkeyword%253Duc&amp;imgurl=http://www.calstrawberry.com/fileData/misc/RMD_Nutrition_Strawberry_Nutrition_Label__Horizontal.jpg&amp;ei=7AlNTaCqGsfMcMPr4c4L&amp;zoom=1&amp;w=596&amp;h=185&amp;iact=rc&amp;oei=7AlNTaCqGsfMcMPr4c4L&amp;esq=1&amp;page=1&amp;tbnh=70&amp;tbnw=226&amp;start=0&amp;ndsp=13&amp;ved=1t:429,r:2,s:0</a:t>
            </a: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entury Gothic"/>
              </a:rPr>
              <a:t>http://www.google.com.ph/imglanding?q=gasoline&amp;um=1&amp;hl=tl&amp;client=firefox-a&amp;rls=org.mozilla:en-US:official&amp;biw=1024&amp;bih=626&amp;tbs=isch:1&amp;tbnid=IKK5dlR7k9tfdM:&amp;imgrefurl=http://dpw.lacounty.gov/epd/hhw/resources/illustration.cfm&amp;imgurl=http://dpw.lacounty.gov/epd/hhw/resources/illustrations/_pc/gasoline.bmp&amp;ei=BApNTfKCIdX9cJDe6LUL&amp;zoom=1&amp;w=400&amp;h=600</a:t>
            </a: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entury Gothic"/>
              </a:rPr>
              <a:t>http://www.google.com.ph/imglanding?q=isopropyl+alcohol&amp;um=1&amp;hl=tl&amp;client=firefox-a&amp;rls=org.mozilla:en-US:official&amp;tbs=isch:1&amp;tbnid=MaYwkU1dUDQdXM:&amp;imgrefurl=http://www.conney.com/Product_First-Aid-Wound-Care-Topical-First-Aid-Conney-Isopropyl-Alcohol-Spray_50001_10102_-1_59506_11256_11253_11251&amp;imgurl=http://www.conney.com/wcsstore/Conney/images/fullsize/z26944.gif&amp;ei=QQpNTYqSJpDJcdXtoPsF&amp;zoom=1&amp;w=400&amp;h=400&amp;iact=hc&amp;oei=OQpNTayCCoe8cJCKodQL&amp;esq=3&amp;page=3&amp;tbnh=146&amp;tbnw=151&amp;start=32&amp;ndsp=15&amp;ved=1t:429,r:3,s:32&amp;biw=1024&amp;bih=626</a:t>
            </a: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entury Gothic"/>
            </a:endParaRPr>
          </a:p>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entury Gothic"/>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4" descr=""/>
          <p:cNvPicPr/>
          <p:nvPr/>
        </p:nvPicPr>
        <p:blipFill>
          <a:blip r:embed="rId1"/>
          <a:stretch/>
        </p:blipFill>
        <p:spPr>
          <a:xfrm>
            <a:off x="212760" y="262080"/>
            <a:ext cx="8480520" cy="1407960"/>
          </a:xfrm>
          <a:prstGeom prst="rect">
            <a:avLst/>
          </a:prstGeom>
          <a:ln w="0">
            <a:noFill/>
          </a:ln>
        </p:spPr>
      </p:pic>
      <p:sp>
        <p:nvSpPr>
          <p:cNvPr id="304" name=""/>
          <p:cNvSpPr txBox="1"/>
          <p:nvPr/>
        </p:nvSpPr>
        <p:spPr>
          <a:xfrm>
            <a:off x="837720" y="1828800"/>
            <a:ext cx="4038840" cy="4525920"/>
          </a:xfrm>
          <a:prstGeom prst="rect">
            <a:avLst/>
          </a:prstGeom>
          <a:noFill/>
          <a:ln w="0">
            <a:noFill/>
          </a:ln>
        </p:spPr>
        <p:txBody>
          <a:bodyPr anchor="t">
            <a:normAutofit/>
          </a:bodyPr>
          <a:p>
            <a:pPr marL="447840" indent="-382680">
              <a:spcBef>
                <a:spcPts val="11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17bbfd"/>
                </a:solidFill>
                <a:uFillTx/>
                <a:latin typeface="Century Gothic"/>
                <a:hlinkClick r:id="rId2" action="ppaction://hlinksldjump"/>
              </a:rPr>
              <a:t>Pollution</a:t>
            </a:r>
            <a:endParaRPr b="0" lang="en-US" sz="4400" spc="-1" strike="noStrike">
              <a:solidFill>
                <a:srgbClr val="ffffff"/>
              </a:solidFill>
              <a:latin typeface="Century Gothic"/>
            </a:endParaRPr>
          </a:p>
          <a:p>
            <a:pPr marL="447840" indent="-382680">
              <a:spcBef>
                <a:spcPts val="11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17bbfd"/>
                </a:solidFill>
                <a:uFillTx/>
                <a:latin typeface="Century Gothic"/>
                <a:hlinkClick r:id="rId3" action="ppaction://hlinksldjump"/>
              </a:rPr>
              <a:t>Health</a:t>
            </a:r>
            <a:r>
              <a:rPr b="1" lang="en-US" sz="4400" spc="-1" strike="noStrike">
                <a:solidFill>
                  <a:srgbClr val="ab0043"/>
                </a:solidFill>
                <a:latin typeface="Century Gothic"/>
              </a:rPr>
              <a:t> </a:t>
            </a:r>
            <a:r>
              <a:rPr b="0" lang="en-US" sz="4400" spc="-1" strike="noStrike" u="sng">
                <a:solidFill>
                  <a:srgbClr val="17bbfd"/>
                </a:solidFill>
                <a:uFillTx/>
                <a:latin typeface="Century Gothic"/>
                <a:hlinkClick r:id="rId4" action="ppaction://hlinksldjump"/>
              </a:rPr>
              <a:t>Problems</a:t>
            </a:r>
            <a:r>
              <a:rPr b="1" lang="en-US" sz="4400" spc="-1" strike="noStrike">
                <a:solidFill>
                  <a:srgbClr val="ab0043"/>
                </a:solidFill>
                <a:latin typeface="Century Gothic"/>
              </a:rPr>
              <a:t> </a:t>
            </a:r>
            <a:endParaRPr b="0" lang="en-US" sz="4400" spc="-1" strike="noStrike">
              <a:solidFill>
                <a:srgbClr val="ffffff"/>
              </a:solidFill>
              <a:latin typeface="Century Gothic"/>
            </a:endParaRPr>
          </a:p>
          <a:p>
            <a:pPr marL="447840" indent="-382680">
              <a:spcBef>
                <a:spcPts val="11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17bbfd"/>
                </a:solidFill>
                <a:uFillTx/>
                <a:latin typeface="Century Gothic"/>
                <a:hlinkClick r:id="rId5" action="ppaction://hlinksldjump"/>
              </a:rPr>
              <a:t>Accidents</a:t>
            </a:r>
            <a:endParaRPr b="0" lang="en-US" sz="4400" spc="-1" strike="noStrike">
              <a:solidFill>
                <a:srgbClr val="ffffff"/>
              </a:solidFill>
              <a:latin typeface="Century Gothic"/>
            </a:endParaRPr>
          </a:p>
          <a:p>
            <a:pPr marL="447840" indent="-3826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entury Gothic"/>
            </a:endParaRPr>
          </a:p>
        </p:txBody>
      </p:sp>
      <p:pic>
        <p:nvPicPr>
          <p:cNvPr id="305" name="" descr=""/>
          <p:cNvPicPr/>
          <p:nvPr/>
        </p:nvPicPr>
        <p:blipFill>
          <a:blip r:embed="rId6"/>
          <a:stretch/>
        </p:blipFill>
        <p:spPr>
          <a:xfrm>
            <a:off x="4648320" y="1951200"/>
            <a:ext cx="4038480" cy="4525920"/>
          </a:xfrm>
          <a:prstGeom prst="rect">
            <a:avLst/>
          </a:prstGeom>
          <a:ln w="0">
            <a:noFill/>
          </a:ln>
        </p:spPr>
      </p:pic>
      <p:pic>
        <p:nvPicPr>
          <p:cNvPr id="306" name="Picture 2" descr="">
            <a:hlinkClick r:id="rId7" action="ppaction://hlinksldjump"/>
          </p:cNvPr>
          <p:cNvPicPr/>
          <p:nvPr/>
        </p:nvPicPr>
        <p:blipFill>
          <a:blip r:embed="rId8"/>
          <a:stretch/>
        </p:blipFill>
        <p:spPr>
          <a:xfrm>
            <a:off x="4952880" y="1981080"/>
            <a:ext cx="3505320" cy="3505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Title 4" descr=""/>
          <p:cNvPicPr/>
          <p:nvPr/>
        </p:nvPicPr>
        <p:blipFill>
          <a:blip r:embed="rId1"/>
          <a:stretch/>
        </p:blipFill>
        <p:spPr>
          <a:xfrm>
            <a:off x="195120" y="262080"/>
            <a:ext cx="8498160" cy="1407960"/>
          </a:xfrm>
          <a:prstGeom prst="rect">
            <a:avLst/>
          </a:prstGeom>
          <a:ln w="0">
            <a:noFill/>
          </a:ln>
        </p:spPr>
      </p:pic>
      <p:sp>
        <p:nvSpPr>
          <p:cNvPr id="348" name="Right Arrow 3"/>
          <p:cNvSpPr/>
          <p:nvPr/>
        </p:nvSpPr>
        <p:spPr>
          <a:xfrm>
            <a:off x="7543800" y="152280"/>
            <a:ext cx="1371600" cy="609840"/>
          </a:xfrm>
          <a:prstGeom prst="rightArrow">
            <a:avLst>
              <a:gd name="adj1" fmla="val 50000"/>
              <a:gd name="adj2" fmla="val 49980"/>
            </a:avLst>
          </a:pr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
          <p:cNvSpPr txBox="1"/>
          <p:nvPr/>
        </p:nvSpPr>
        <p:spPr>
          <a:xfrm>
            <a:off x="457200" y="1882800"/>
            <a:ext cx="8229600" cy="1108080"/>
          </a:xfrm>
          <a:prstGeom prst="rect">
            <a:avLst/>
          </a:prstGeom>
          <a:noFill/>
          <a:ln w="0">
            <a:noFill/>
          </a:ln>
        </p:spPr>
        <p:txBody>
          <a:bodyPr anchor="t">
            <a:normAutofit/>
          </a:bodyPr>
          <a:p>
            <a:pPr marL="447840" indent="-382680">
              <a:spcBef>
                <a:spcPts val="2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entury Gothic"/>
              </a:rPr>
              <a:t>http://www.google.com.ph/imglanding?q=fire&amp;um=1&amp;hl=tl&amp;client=firefox-a&amp;rls=org.mozilla:en-US:official&amp;biw=1024&amp;bih=626&amp;tbs=isch:1&amp;tbnid=gIWxQg_1d_hIyM:&amp;imgrefurl=http://www.backgroundpictures.org/p/fire/page-1.html&amp;imgurl=http://www.backgroundpictures.org/p/fire/fire_04.jpg&amp;ei=WApNTcbXDsOycNrw_McL&amp;zoom=1&amp;w=1600&amp;h=1200&amp;iact=hc&amp;oei=WApNTcbXDsOycNrw_McL&amp;esq=1&amp;page=1&amp;tbnh=152&amp;tbnw=213&amp;start=0&amp;ndsp=12&amp;ved=1t:429,r:1,s:0</a:t>
            </a:r>
            <a:endParaRPr b="0" lang="en-US" sz="1100" spc="-1" strike="noStrike">
              <a:solidFill>
                <a:srgbClr val="ffffff"/>
              </a:solidFill>
              <a:latin typeface="Century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298440" y="-6480"/>
            <a:ext cx="8242200" cy="1414440"/>
          </a:xfrm>
          <a:prstGeom prst="rect">
            <a:avLst/>
          </a:prstGeom>
          <a:ln w="0">
            <a:noFill/>
          </a:ln>
        </p:spPr>
      </p:pic>
      <p:sp>
        <p:nvSpPr>
          <p:cNvPr id="308" name=""/>
          <p:cNvSpPr txBox="1"/>
          <p:nvPr/>
        </p:nvSpPr>
        <p:spPr>
          <a:xfrm>
            <a:off x="380880" y="1752480"/>
            <a:ext cx="8229600" cy="3733920"/>
          </a:xfrm>
          <a:prstGeom prst="rect">
            <a:avLst/>
          </a:prstGeom>
          <a:noFill/>
          <a:ln w="0">
            <a:noFill/>
          </a:ln>
        </p:spPr>
        <p:txBody>
          <a:bodyPr anchor="t">
            <a:normAutofit/>
          </a:bodyPr>
          <a:p>
            <a:pPr marL="447840" indent="-382680">
              <a:spcBef>
                <a:spcPts val="7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98"/>
                </a:solidFill>
                <a:latin typeface="Century Gothic"/>
              </a:rPr>
              <a:t>What is POLLUTION?</a:t>
            </a:r>
            <a:endParaRPr b="0" lang="en-US" sz="3200" spc="-1" strike="noStrike">
              <a:solidFill>
                <a:srgbClr val="ffffff"/>
              </a:solidFill>
              <a:latin typeface="Century Gothic"/>
            </a:endParaRPr>
          </a:p>
          <a:p>
            <a:pPr marL="4478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98"/>
                </a:solidFill>
                <a:latin typeface="Century Gothic"/>
              </a:rPr>
              <a:t>	</a:t>
            </a:r>
            <a:r>
              <a:rPr b="1" lang="en-US" sz="3200" spc="-1" strike="noStrike">
                <a:solidFill>
                  <a:srgbClr val="ff5698"/>
                </a:solidFill>
                <a:latin typeface="Century Gothic"/>
              </a:rPr>
              <a:t>	</a:t>
            </a:r>
            <a:r>
              <a:rPr b="0" lang="en-US" sz="2800" spc="-1" strike="noStrike">
                <a:solidFill>
                  <a:srgbClr val="ffffff"/>
                </a:solidFill>
                <a:latin typeface="Century Gothic"/>
              </a:rPr>
              <a:t>-Pollution is caused by significant amounts of pollutants that are/is introduced into the air, water and soil, making these resources polluted and unsafe to living things and the environment. These are some examples that can pollute the air and land:</a:t>
            </a:r>
            <a:endParaRPr b="0" lang="en-US" sz="2800" spc="-1" strike="noStrike">
              <a:solidFill>
                <a:srgbClr val="ffffff"/>
              </a:solidFill>
              <a:latin typeface="Century Gothic"/>
            </a:endParaRPr>
          </a:p>
          <a:p>
            <a:pPr marL="4478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4" descr="">
            <a:hlinkClick r:id="rId1" action="ppaction://hlinksldjump"/>
          </p:cNvPr>
          <p:cNvPicPr/>
          <p:nvPr/>
        </p:nvPicPr>
        <p:blipFill>
          <a:blip r:embed="rId2"/>
          <a:stretch/>
        </p:blipFill>
        <p:spPr>
          <a:xfrm>
            <a:off x="457200" y="457200"/>
            <a:ext cx="7086600" cy="5205240"/>
          </a:xfrm>
          <a:prstGeom prst="rect">
            <a:avLst/>
          </a:prstGeom>
          <a:ln w="0">
            <a:noFill/>
          </a:ln>
        </p:spPr>
      </p:pic>
      <p:sp>
        <p:nvSpPr>
          <p:cNvPr id="310" name="TextBox 6"/>
          <p:cNvSpPr/>
          <p:nvPr/>
        </p:nvSpPr>
        <p:spPr>
          <a:xfrm>
            <a:off x="457200" y="5715000"/>
            <a:ext cx="3124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03f"/>
                </a:solidFill>
                <a:latin typeface="Century Gothic"/>
              </a:rPr>
              <a:t>pesticides</a:t>
            </a:r>
            <a:endParaRPr b="0" lang="en-US" sz="4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5" descr=""/>
          <p:cNvPicPr/>
          <p:nvPr/>
        </p:nvPicPr>
        <p:blipFill>
          <a:blip r:embed="rId1"/>
          <a:stretch/>
        </p:blipFill>
        <p:spPr>
          <a:xfrm>
            <a:off x="457200" y="380880"/>
            <a:ext cx="4495680" cy="6019920"/>
          </a:xfrm>
          <a:prstGeom prst="rect">
            <a:avLst/>
          </a:prstGeom>
          <a:ln w="0">
            <a:noFill/>
          </a:ln>
        </p:spPr>
      </p:pic>
      <p:sp>
        <p:nvSpPr>
          <p:cNvPr id="312" name="TextBox 4"/>
          <p:cNvSpPr/>
          <p:nvPr/>
        </p:nvSpPr>
        <p:spPr>
          <a:xfrm>
            <a:off x="5486400" y="2133720"/>
            <a:ext cx="33526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03f"/>
                </a:solidFill>
                <a:latin typeface="Century Gothic"/>
              </a:rPr>
              <a:t>Aerosol spray</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03f"/>
                </a:solidFill>
                <a:latin typeface="Century Gothic"/>
              </a:rPr>
              <a:t> </a:t>
            </a:r>
            <a:r>
              <a:rPr b="0" lang="en-US" sz="4400" spc="-1" strike="noStrike">
                <a:solidFill>
                  <a:srgbClr val="34003f"/>
                </a:solidFill>
                <a:latin typeface="Century Gothic"/>
              </a:rPr>
              <a:t>with CFC</a:t>
            </a:r>
            <a:endParaRPr b="0" lang="en-US" sz="4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533520" y="761760"/>
            <a:ext cx="8229600" cy="5181480"/>
          </a:xfrm>
          <a:prstGeom prst="rect">
            <a:avLst/>
          </a:prstGeom>
          <a:noFill/>
          <a:ln w="0">
            <a:noFill/>
          </a:ln>
        </p:spPr>
        <p:txBody>
          <a:bodyPr anchor="t">
            <a:normAutofit/>
          </a:bodyPr>
          <a:p>
            <a:pPr marL="447840" indent="-382680">
              <a:spcBef>
                <a:spcPts val="7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698"/>
                </a:solidFill>
                <a:latin typeface="Century Gothic"/>
              </a:rPr>
              <a:t>How can POLLUTION be prevented as an Atenean?</a:t>
            </a:r>
            <a:endParaRPr b="0" lang="en-US" sz="3200" spc="-1" strike="noStrike">
              <a:solidFill>
                <a:srgbClr val="ffffff"/>
              </a:solidFill>
              <a:latin typeface="Century Gothic"/>
            </a:endParaRPr>
          </a:p>
          <a:p>
            <a:pPr marL="4478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3000" spc="-1" strike="noStrike">
                <a:solidFill>
                  <a:srgbClr val="ffffff"/>
                </a:solidFill>
                <a:latin typeface="Century Gothic"/>
              </a:rPr>
              <a:t>	</a:t>
            </a:r>
            <a:r>
              <a:rPr b="0" lang="en-US" sz="2800" spc="-1" strike="noStrike">
                <a:solidFill>
                  <a:srgbClr val="ffffff"/>
                </a:solidFill>
                <a:latin typeface="Century Gothic"/>
              </a:rPr>
              <a:t>-Pollution can be prevented by not burning plastic and rotten food in the soil or ground and also, by recycling things.</a:t>
            </a:r>
            <a:endParaRPr b="0" lang="en-US" sz="2800" spc="-1" strike="noStrike">
              <a:solidFill>
                <a:srgbClr val="ffffff"/>
              </a:solidFill>
              <a:latin typeface="Century Gothic"/>
            </a:endParaRPr>
          </a:p>
          <a:p>
            <a:pPr marL="4478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4478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If pollution can’t be stopped earlier, it can deplete or makes our ozone layer thinner. And that is why we are having this new problem called </a:t>
            </a:r>
            <a:r>
              <a:rPr b="1" lang="en-US" sz="2800" spc="-1" strike="noStrike">
                <a:solidFill>
                  <a:srgbClr val="ff5698"/>
                </a:solidFill>
                <a:latin typeface="Century Gothic"/>
              </a:rPr>
              <a:t>GLOBAL WARMING</a:t>
            </a:r>
            <a:r>
              <a:rPr b="0" lang="en-US" sz="2800" spc="-1" strike="noStrike">
                <a:solidFill>
                  <a:srgbClr val="ffffff"/>
                </a:solidFill>
                <a:latin typeface="Century Gothic"/>
              </a:rPr>
              <a:t>.</a:t>
            </a:r>
            <a:endParaRPr b="0" lang="en-US" sz="2800" spc="-1" strike="noStrike">
              <a:solidFill>
                <a:srgbClr val="ffffff"/>
              </a:solidFill>
              <a:latin typeface="Century Gothic"/>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3" descr=""/>
          <p:cNvPicPr/>
          <p:nvPr/>
        </p:nvPicPr>
        <p:blipFill>
          <a:blip r:embed="rId1"/>
          <a:stretch/>
        </p:blipFill>
        <p:spPr>
          <a:xfrm>
            <a:off x="0" y="0"/>
            <a:ext cx="9144000" cy="6858000"/>
          </a:xfrm>
          <a:prstGeom prst="rect">
            <a:avLst/>
          </a:prstGeom>
          <a:ln w="0">
            <a:noFill/>
          </a:ln>
        </p:spPr>
      </p:pic>
      <p:sp>
        <p:nvSpPr>
          <p:cNvPr id="315" name="Curved Left Arrow 4">
            <a:hlinkClick r:id="rId2" action="ppaction://hlinksldjump"/>
          </p:cNvPr>
          <p:cNvSpPr/>
          <p:nvPr/>
        </p:nvSpPr>
        <p:spPr>
          <a:xfrm>
            <a:off x="7696080" y="5791320"/>
            <a:ext cx="1219320" cy="761760"/>
          </a:xfrm>
          <a:custGeom>
            <a:avLst/>
            <a:gdLst>
              <a:gd name="textAreaLeft" fmla="*/ 163080 w 1219320"/>
              <a:gd name="textAreaRight" fmla="*/ 1056240 w 1219320"/>
              <a:gd name="textAreaTop" fmla="*/ 118800 h 761760"/>
              <a:gd name="textAreaBottom" fmla="*/ 547560 h 761760"/>
            </a:gdLst>
            <a:ahLst/>
            <a:rect l="textAreaLeft" t="textAreaTop" r="textAreaRight" b="textAreaBottom"/>
            <a:pathLst>
              <a:path w="21600" h="21600">
                <a:moveTo>
                  <a:pt x="0" y="0"/>
                </a:moveTo>
                <a:arcTo wR="21600" hR="6750" stAng="-5400000" swAng="5400000"/>
                <a:lnTo>
                  <a:pt x="21600" y="12150"/>
                </a:lnTo>
                <a:arcTo wR="21600" hR="6750" stAng="0" swAng="3789040"/>
                <a:lnTo>
                  <a:pt x="3375" y="21517"/>
                </a:lnTo>
                <a:lnTo>
                  <a:pt x="0" y="16200"/>
                </a:lnTo>
                <a:lnTo>
                  <a:pt x="3375" y="10717"/>
                </a:lnTo>
                <a:lnTo>
                  <a:pt x="3375" y="13417"/>
                </a:lnTo>
                <a:arcTo wR="21600" hR="6750" stAng="3789040" swAng="-3323054"/>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ff388c"/>
          </a:solidFill>
          <a:ln w="25560">
            <a:solidFill>
              <a:srgbClr val="bc266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378000" y="-6480"/>
            <a:ext cx="8242200" cy="1414440"/>
          </a:xfrm>
          <a:prstGeom prst="rect">
            <a:avLst/>
          </a:prstGeom>
          <a:ln w="0">
            <a:noFill/>
          </a:ln>
        </p:spPr>
      </p:pic>
      <p:sp>
        <p:nvSpPr>
          <p:cNvPr id="317" name=""/>
          <p:cNvSpPr txBox="1"/>
          <p:nvPr/>
        </p:nvSpPr>
        <p:spPr>
          <a:xfrm>
            <a:off x="380880" y="1600200"/>
            <a:ext cx="8229600" cy="4114800"/>
          </a:xfrm>
          <a:prstGeom prst="rect">
            <a:avLst/>
          </a:prstGeom>
          <a:noFill/>
          <a:ln w="0">
            <a:noFill/>
          </a:ln>
        </p:spPr>
        <p:txBody>
          <a:bodyPr anchor="t">
            <a:normAutofit/>
          </a:bodyPr>
          <a:p>
            <a:pPr marL="447840" indent="-382680">
              <a:spcBef>
                <a:spcPts val="7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698"/>
                </a:solidFill>
                <a:latin typeface="Century Gothic"/>
              </a:rPr>
              <a:t>What are the 2 Most Fatal Ailments?</a:t>
            </a:r>
            <a:endParaRPr b="0" lang="en-US" sz="3200" spc="-1" strike="noStrike">
              <a:solidFill>
                <a:srgbClr val="ffffff"/>
              </a:solidFill>
              <a:latin typeface="Century Gothic"/>
            </a:endParaRPr>
          </a:p>
          <a:p>
            <a:pPr marL="4478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3000" spc="-1" strike="noStrike">
                <a:solidFill>
                  <a:srgbClr val="ffffff"/>
                </a:solidFill>
                <a:latin typeface="Century Gothic"/>
              </a:rPr>
              <a:t>	</a:t>
            </a:r>
            <a:r>
              <a:rPr b="0" lang="en-US" sz="2800" spc="-1" strike="noStrike">
                <a:solidFill>
                  <a:srgbClr val="ffffff"/>
                </a:solidFill>
                <a:latin typeface="Century Gothic"/>
              </a:rPr>
              <a:t>-Cancer and hypertension are the Most Fatal Ailments at present, killing people at various ages. Researches have shown that these ailments are related to the kind of food that people eat. These are some examples of food products that have ingredients that can be harmful  to one’s health:</a:t>
            </a:r>
            <a:endParaRPr b="0" lang="en-US" sz="2800" spc="-1" strike="noStrike">
              <a:solidFill>
                <a:srgbClr val="ffffff"/>
              </a:solidFill>
              <a:latin typeface="Century Gothic"/>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609480" y="1828800"/>
            <a:ext cx="3733920" cy="3733920"/>
          </a:xfrm>
          <a:prstGeom prst="rect">
            <a:avLst/>
          </a:prstGeom>
          <a:ln w="0">
            <a:noFill/>
          </a:ln>
        </p:spPr>
      </p:pic>
      <p:pic>
        <p:nvPicPr>
          <p:cNvPr id="319" name="Picture 3" descr=""/>
          <p:cNvPicPr/>
          <p:nvPr/>
        </p:nvPicPr>
        <p:blipFill>
          <a:blip r:embed="rId2"/>
          <a:stretch/>
        </p:blipFill>
        <p:spPr>
          <a:xfrm>
            <a:off x="4724280" y="1981080"/>
            <a:ext cx="3733920" cy="3267360"/>
          </a:xfrm>
          <a:prstGeom prst="rect">
            <a:avLst/>
          </a:prstGeom>
          <a:ln w="0">
            <a:noFill/>
          </a:ln>
        </p:spPr>
      </p:pic>
      <p:pic>
        <p:nvPicPr>
          <p:cNvPr id="320" name="Title 11" descr=""/>
          <p:cNvPicPr/>
          <p:nvPr/>
        </p:nvPicPr>
        <p:blipFill>
          <a:blip r:embed="rId3"/>
          <a:stretch/>
        </p:blipFill>
        <p:spPr>
          <a:xfrm>
            <a:off x="195120" y="262080"/>
            <a:ext cx="8498160" cy="1407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05T06:49:53Z</dcterms:created>
  <dc:creator>End-User</dc:creator>
  <dc:description/>
  <dc:language>en-US</dc:language>
  <cp:lastModifiedBy>IT</cp:lastModifiedBy>
  <dcterms:modified xsi:type="dcterms:W3CDTF">2011-02-17T03:10:51Z</dcterms:modified>
  <cp:revision>25</cp:revision>
  <dc:subject/>
  <dc:title>Effects of Mixtures to Living Things and the Environment</dc:title>
</cp:coreProperties>
</file>